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5EF51-A395-4C7D-AEE8-F66B4685A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EBEDA-A5EC-46F4-AA65-FB6821146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818D2-A0F5-4CC3-9EE0-75A6BC21E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18B3D-A643-42D3-89FF-F1112CA7B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C6BD1-4226-47E3-B15E-E5956CFD8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57061-31AD-4A25-A5DB-73D019F99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E237E-71BF-4552-8128-5A2AB68EF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241FC-83DD-4102-946A-BD2210BAB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15883-E903-4AEB-9ECB-A5B3B9541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A81E-B82D-46D7-BDAE-21956934C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DB30-3FC3-47B7-BF68-0B81050B3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FA990-21D6-408F-83D8-4CE367CA8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A2D7-542B-4C11-BB20-4319120660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l.wikipedia.org/wiki/Wi-Fi" TargetMode="External"/><Relationship Id="rId2" Type="http://schemas.openxmlformats.org/officeDocument/2006/relationships/hyperlink" Target="http://el.wikipedia.org/wiki/Wi-Fi"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ΥΝΔΕΣΗ ΣΕ ΑΣΥΡΜΑΤΟ ΔΙΚΤΥΟ ΚΑΙ ΠΩΣ ΔΟΥΛΕΥΕΙ ΕΝΑ ΑΣΥΡΜΑΤΟ ΔΙΚΤΥΟ</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σύρματη τεχνολογία εκμεταλλεύεται τις δωρεάν ραδιοσυχνότητες μεταξύ 2.4GHz και 5GHz. Τα πρωτόκολλα 802.11b και 802.11g χρησιμοποιούν την συχνότητα 2.4MHz αντί του 802.11a που χρησιμοποιεί την συχνότητα 5MHz.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πλεονέκτημα του τελευταίου είναι ότι χρησιμοποιεί συχνότητα μεγαλύτερης εμβέλειας αν και μπορεί να δεχτεί παρεμβολές πολύ εύκολα από άλλες ασύρματες συσκευές όπως τα ασύρματα τηλέφωνα.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ασύρματα δίκτυα εμφανίζονται μόνον, εάν ο υπολογιστής σας διαθέτει εγκατεστημένο προσαρμογέα ασύρματου δικτύου και ο προσαρμογέας αυτός είναι ενεργοποιημένος.</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6" name="image001" descr=""/>
          <p:cNvPicPr/>
          <p:nvPr/>
        </p:nvPicPr>
        <p:blipFill>
          <a:blip r:embed="rId1"/>
          <a:stretch/>
        </p:blipFill>
        <p:spPr>
          <a:xfrm>
            <a:off x="4788000" y="2276640"/>
            <a:ext cx="4038480" cy="287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ΠΕΡΙΓΡΑΦΗ ΕΞΟΠΛΙΣΜΟΥ ΑΣΥΡΜΑΤΩΝ ΔΙΚΤΥΩΝ</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5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Access Point (σημείο πρόσβασης) είναι με τον αυστηρό ορισμό της λέξης μία δικτυακή ασύρματη συσκευή η οποία λειτουργεί σαν κετρικό σημειο πάνω στο οποίο συνδέονται οι υπόλοιπες ασύρματεσ συσκευές clients (πελάτες) για να επικοινωνήσουν μεταξύ τους. Πιο γενικά (στην περίπτωση του δικτύου μας) με τον όρο Access Point ή AP εννοούμε τον backbone κόμβο ο οποίος έχει και ένα Access Point στο οποίο συνδέονται οι clients της περιοχής του. Στο wind τα Access Points είναι οι κόμβοι με πράσινο χρώμα, ενω οι clients οι μπλέ.</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
          <p:cNvSpPr/>
          <p:nvPr/>
        </p:nvSpPr>
        <p:spPr>
          <a:xfrm>
            <a:off x="3290040" y="2405880"/>
            <a:ext cx="1204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80" name="" descr=""/>
          <p:cNvPicPr/>
          <p:nvPr/>
        </p:nvPicPr>
        <p:blipFill>
          <a:blip r:embed="rId1"/>
          <a:stretch/>
        </p:blipFill>
        <p:spPr>
          <a:xfrm>
            <a:off x="5076720" y="2492280"/>
            <a:ext cx="3348000" cy="23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έλη της Ομάδας</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πάλος Σταύρ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πάλος Γρηγόρ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ιακούμπ Χρίστ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ρωτήσει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ί είναι τα Ασύρματα Δίκτυα;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α “πρώτα βήματα” των Ασύρματων Δικτύων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ίκτυα 1ης, 2ης &amp; 3ης Γενιάς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ρωτόκολλα Ασύρματων Δικτύων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πολογίες Ασύρματων Δικτύων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ώς δουλεύει ένα ασύρματο δίκτυο;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εριγραφή εξοπλισμού Ασύρματων Δικτύων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ύνδεση σε Ασύρματο δίκτυο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WLAN;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Wi-Fi;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WiMAX (Σταύρο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GPS (Σταύρο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Bluetooth (Σταύρο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οια είναι τα μειονεκτήματα των Ασύρματων Δικτύων; (Σταύρος Μπάλος)</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ι είναι το WiMAX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WiMAX</a:t>
            </a:r>
            <a:r>
              <a:rPr b="0" lang="el-GR" sz="2000" spc="-1" strike="noStrike">
                <a:solidFill>
                  <a:srgbClr val="000000"/>
                </a:solidFill>
                <a:latin typeface="Arial"/>
              </a:rPr>
              <a:t>αποκαλείται η τεχνολογία ασύρματης δικτύωσης η οποία λειτουργεί με παρεμφερή τρόπο με το </a:t>
            </a:r>
            <a:r>
              <a:rPr b="0" lang="el-GR" sz="2000" spc="-1" strike="noStrike" u="sng">
                <a:solidFill>
                  <a:srgbClr val="009999"/>
                </a:solidFill>
                <a:uFillTx/>
                <a:latin typeface="Arial"/>
                <a:hlinkClick r:id="rId1"/>
              </a:rPr>
              <a:t>Wi</a:t>
            </a:r>
            <a:r>
              <a:rPr b="0" lang="el-GR" sz="2000" spc="-1" strike="noStrike" u="sng">
                <a:solidFill>
                  <a:srgbClr val="009999"/>
                </a:solidFill>
                <a:uFillTx/>
                <a:latin typeface="Arial"/>
                <a:hlinkClick r:id="rId2"/>
              </a:rPr>
              <a:t>-Fi</a:t>
            </a:r>
            <a:r>
              <a:rPr b="0" lang="el-GR" sz="2000" spc="-1" strike="noStrike">
                <a:solidFill>
                  <a:srgbClr val="000000"/>
                </a:solidFill>
                <a:latin typeface="Arial"/>
              </a:rPr>
              <a:t>, ωστόσο με πολύ μεγαλύτερη εμβέλεια. </a:t>
            </a:r>
            <a:endParaRPr b="0" lang="en-US" sz="2000" spc="-1" strike="noStrike">
              <a:solidFill>
                <a:srgbClr val="000000"/>
              </a:solidFill>
              <a:latin typeface="Arial"/>
            </a:endParaRPr>
          </a:p>
        </p:txBody>
      </p:sp>
      <p:pic>
        <p:nvPicPr>
          <p:cNvPr id="47" name="" descr=""/>
          <p:cNvPicPr/>
          <p:nvPr/>
        </p:nvPicPr>
        <p:blipFill>
          <a:blip r:embed="rId3"/>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Τι είναι το GP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Το </a:t>
            </a:r>
            <a:r>
              <a:rPr b="1" lang="en-US" sz="2000" spc="-1" strike="noStrike">
                <a:solidFill>
                  <a:srgbClr val="000000"/>
                </a:solidFill>
                <a:latin typeface="Arial"/>
              </a:rPr>
              <a:t>GPS</a:t>
            </a:r>
            <a:r>
              <a:rPr b="0" lang="en-US" sz="2000" spc="-1" strike="noStrike">
                <a:solidFill>
                  <a:srgbClr val="000000"/>
                </a:solidFill>
                <a:latin typeface="Arial"/>
              </a:rPr>
              <a:t> είναι το παγκόσμιο σύστημα προσδιορισμού θέσης. Είναι ένα δίκτυο δορυφόρων σε τροχιά που μεταδίδουν στη Γη ακριβείς αναλυτικές πληροφορίες σχετικές με τη θέση τους στο διάστημα. </a:t>
            </a:r>
            <a:endParaRPr b="0" lang="en-US" sz="2000" spc="-1" strike="noStrike">
              <a:solidFill>
                <a:srgbClr val="000000"/>
              </a:solidFill>
              <a:latin typeface="Arial"/>
            </a:endParaRPr>
          </a:p>
        </p:txBody>
      </p:sp>
      <p:grpSp>
        <p:nvGrpSpPr>
          <p:cNvPr id="50" name=""/>
          <p:cNvGrpSpPr/>
          <p:nvPr/>
        </p:nvGrpSpPr>
        <p:grpSpPr>
          <a:xfrm>
            <a:off x="4648320" y="1600200"/>
            <a:ext cx="4038480" cy="4525920"/>
            <a:chOff x="4648320" y="1600200"/>
            <a:chExt cx="4038480" cy="4525920"/>
          </a:xfrm>
        </p:grpSpPr>
        <p:pic>
          <p:nvPicPr>
            <p:cNvPr id="51" name="" descr=""/>
            <p:cNvPicPr/>
            <p:nvPr/>
          </p:nvPicPr>
          <p:blipFill>
            <a:blip r:embed="rId1"/>
            <a:stretch/>
          </p:blipFill>
          <p:spPr>
            <a:xfrm>
              <a:off x="4648320" y="1600200"/>
              <a:ext cx="4038480" cy="4525920"/>
            </a:xfrm>
            <a:prstGeom prst="rect">
              <a:avLst/>
            </a:prstGeom>
            <a:ln w="0">
              <a:noFill/>
            </a:ln>
          </p:spPr>
        </p:pic>
        <p:sp>
          <p:nvSpPr>
            <p:cNvPr id="5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ι είναι το Bluetooth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1" lang="el-GR" sz="2000" spc="-1" strike="noStrike">
                <a:solidFill>
                  <a:srgbClr val="000000"/>
                </a:solidFill>
                <a:latin typeface="Arial"/>
              </a:rPr>
              <a:t>Bluetooth</a:t>
            </a:r>
            <a:r>
              <a:rPr b="0" lang="el-GR" sz="2000" spc="-1" strike="noStrike">
                <a:solidFill>
                  <a:srgbClr val="000000"/>
                </a:solidFill>
                <a:latin typeface="Arial"/>
              </a:rPr>
              <a:t> είναι ένα βιομηχανικό πρότυπο για </a:t>
            </a:r>
            <a:r>
              <a:rPr b="0" i="1" lang="el-GR" sz="2000" spc="-1" strike="noStrike">
                <a:solidFill>
                  <a:srgbClr val="000000"/>
                </a:solidFill>
                <a:latin typeface="Arial"/>
              </a:rPr>
              <a:t>ασύρματα προσωπικά δίκτυα υπολογιστών</a:t>
            </a:r>
            <a:r>
              <a:rPr b="0" lang="el-GR" sz="2000" spc="-1" strike="noStrike">
                <a:solidFill>
                  <a:srgbClr val="000000"/>
                </a:solidFill>
                <a:latin typeface="Arial"/>
              </a:rPr>
              <a:t> (Wireless Personal Αrea Νetworks, WPAN). Πρόκειται για μια ασύρματη τηλεπικοινωνιακή τεχνολογία μικρών αποστάσεων, η οποία μπορεί να μεταδώσει σήματα μέσω μικροκυμάτων σε ψηφιακές συσκευές.</a:t>
            </a:r>
            <a:endParaRPr b="0" lang="en-US" sz="2000" spc="-1" strike="noStrike">
              <a:solidFill>
                <a:srgbClr val="000000"/>
              </a:solidFill>
              <a:latin typeface="Arial"/>
            </a:endParaRPr>
          </a:p>
        </p:txBody>
      </p:sp>
      <p:grpSp>
        <p:nvGrpSpPr>
          <p:cNvPr id="55" name=""/>
          <p:cNvGrpSpPr/>
          <p:nvPr/>
        </p:nvGrpSpPr>
        <p:grpSpPr>
          <a:xfrm>
            <a:off x="4648320" y="1600200"/>
            <a:ext cx="4038480" cy="4525920"/>
            <a:chOff x="4648320" y="1600200"/>
            <a:chExt cx="4038480" cy="4525920"/>
          </a:xfrm>
        </p:grpSpPr>
        <p:pic>
          <p:nvPicPr>
            <p:cNvPr id="56" name="" descr=""/>
            <p:cNvPicPr/>
            <p:nvPr/>
          </p:nvPicPr>
          <p:blipFill>
            <a:blip r:embed="rId1"/>
            <a:stretch/>
          </p:blipFill>
          <p:spPr>
            <a:xfrm>
              <a:off x="4648320" y="1600200"/>
              <a:ext cx="4038480" cy="4525920"/>
            </a:xfrm>
            <a:prstGeom prst="rect">
              <a:avLst/>
            </a:prstGeom>
            <a:ln w="0">
              <a:noFill/>
            </a:ln>
          </p:spPr>
        </p:pic>
        <p:sp>
          <p:nvSpPr>
            <p:cNvPr id="5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οια είναι τα μειονεκτήματα των Ασύρματων Δικτύων; </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α μειονεκτήματα των ασύρματων δικτύων:</a:t>
            </a:r>
            <a:r>
              <a:rPr b="1" lang="en-U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όστος </a:t>
            </a:r>
            <a:br>
              <a:rPr sz="1600"/>
            </a:br>
            <a:br>
              <a:rPr sz="1600"/>
            </a:br>
            <a:r>
              <a:rPr b="1" lang="el-GR" sz="1600" spc="-1" strike="noStrike">
                <a:solidFill>
                  <a:srgbClr val="000000"/>
                </a:solidFill>
                <a:latin typeface="Arial"/>
              </a:rPr>
              <a:t>Τα ασύρματα δίκτυα είναι συνήθως φθηνά, αλλά αυτό μπορεί να κοστίσει έως και τέσσερις φορές περισσότερο για να δημιουργήσει ένα ασύρματο δίκτυο από το να δημιουργήσει ένα ενσύρματο δίκτυο σε ορισμένες περιπτώσεις. </a:t>
            </a:r>
            <a:br>
              <a:rPr sz="1600"/>
            </a:br>
            <a:br>
              <a:rPr sz="1600"/>
            </a:br>
            <a:r>
              <a:rPr b="1" lang="el-GR" sz="1600" spc="-1" strike="noStrike">
                <a:solidFill>
                  <a:srgbClr val="000000"/>
                </a:solidFill>
                <a:latin typeface="Arial"/>
              </a:rPr>
              <a:t>Κάλυψη </a:t>
            </a:r>
            <a:br>
              <a:rPr sz="1600"/>
            </a:br>
            <a:br>
              <a:rPr sz="1600"/>
            </a:br>
            <a:r>
              <a:rPr b="1" lang="el-GR" sz="1600" spc="-1" strike="noStrike">
                <a:solidFill>
                  <a:srgbClr val="000000"/>
                </a:solidFill>
                <a:latin typeface="Arial"/>
              </a:rPr>
              <a:t>Η εμβέλεια ενός ασύρματου δικτύου είναι περιορισμένη και ένα τυπικό ασύρματο router μόνο θα επιτρέψει στα άτομα μέσα σε 150 έως 300 πόδια για να έχουν πρόσβαση στο δίκτυο</a:t>
            </a:r>
            <a:r>
              <a:rPr b="0" lang="el-GR" sz="1600" spc="-1" strike="noStrike">
                <a:solidFill>
                  <a:srgbClr val="000000"/>
                </a:solidFill>
                <a:latin typeface="Arial"/>
              </a:rPr>
              <a:t>.</a:t>
            </a:r>
            <a:endParaRPr b="0" lang="en-US" sz="1600" spc="-1" strike="noStrike">
              <a:solidFill>
                <a:srgbClr val="000000"/>
              </a:solidFill>
              <a:latin typeface="Arial"/>
            </a:endParaRPr>
          </a:p>
        </p:txBody>
      </p:sp>
      <p:grpSp>
        <p:nvGrpSpPr>
          <p:cNvPr id="60" name=""/>
          <p:cNvGrpSpPr/>
          <p:nvPr/>
        </p:nvGrpSpPr>
        <p:grpSpPr>
          <a:xfrm>
            <a:off x="4648320" y="1600200"/>
            <a:ext cx="4038480" cy="4525920"/>
            <a:chOff x="4648320" y="1600200"/>
            <a:chExt cx="4038480" cy="4525920"/>
          </a:xfrm>
        </p:grpSpPr>
        <p:pic>
          <p:nvPicPr>
            <p:cNvPr id="61" name="" descr=""/>
            <p:cNvPicPr/>
            <p:nvPr/>
          </p:nvPicPr>
          <p:blipFill>
            <a:blip r:embed="rId1"/>
            <a:stretch/>
          </p:blipFill>
          <p:spPr>
            <a:xfrm>
              <a:off x="4648320" y="1600200"/>
              <a:ext cx="4038480" cy="4525920"/>
            </a:xfrm>
            <a:prstGeom prst="rect">
              <a:avLst/>
            </a:prstGeom>
            <a:ln w="0">
              <a:noFill/>
            </a:ln>
          </p:spPr>
        </p:pic>
        <p:sp>
          <p:nvSpPr>
            <p:cNvPr id="6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οια είναι τα μειονεκτήματα των Ασύρματων Δικτύων;</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Αξιοπιστία</a:t>
            </a:r>
            <a:r>
              <a:rPr b="0" lang="en-US" sz="1600" spc="-1" strike="noStrike">
                <a:solidFill>
                  <a:srgbClr val="000000"/>
                </a:solidFill>
                <a:latin typeface="Arial"/>
              </a:rPr>
              <a:t> </a:t>
            </a:r>
            <a:br>
              <a:rPr sz="1600"/>
            </a:br>
            <a:br>
              <a:rPr sz="1600"/>
            </a:br>
            <a:r>
              <a:rPr b="1" lang="en-US" sz="1600" spc="-1" strike="noStrike">
                <a:solidFill>
                  <a:srgbClr val="000000"/>
                </a:solidFill>
                <a:latin typeface="Arial"/>
              </a:rPr>
              <a:t>Τα ασύρματα δίκτυα είναι εξαιρετικά ευαίσθητα σε παρεμβολές έτσι ραδιοφωνικών σημάτων, ακτινοβολία και κάθε άλλο παρόμοιο τύπο παρεμβολή μπορεί να προκαλέσει ένα ασύρματο δίκτυο με την ελαττωματική λειτουργία</a:t>
            </a:r>
            <a:r>
              <a:rPr b="0" lang="en-US" sz="1600" spc="-1" strike="noStrike">
                <a:solidFill>
                  <a:srgbClr val="000000"/>
                </a:solidFill>
                <a:latin typeface="Arial"/>
              </a:rPr>
              <a:t>. </a:t>
            </a:r>
            <a:br>
              <a:rPr sz="1600"/>
            </a:br>
            <a:br>
              <a:rPr sz="1600"/>
            </a:br>
            <a:r>
              <a:rPr b="1" lang="en-US" sz="1600" spc="-1" strike="noStrike">
                <a:solidFill>
                  <a:srgbClr val="000000"/>
                </a:solidFill>
                <a:latin typeface="Arial"/>
              </a:rPr>
              <a:t>Ασφάλεια </a:t>
            </a:r>
            <a:br>
              <a:rPr sz="1600"/>
            </a:br>
            <a:br>
              <a:rPr sz="1600"/>
            </a:br>
            <a:r>
              <a:rPr b="1" lang="en-US" sz="1600" spc="-1" strike="noStrike">
                <a:solidFill>
                  <a:srgbClr val="000000"/>
                </a:solidFill>
                <a:latin typeface="Arial"/>
              </a:rPr>
              <a:t>Τα ασύρματα δίκτυα μπορούν να έχουν πρόσβαση από οποιοδήποτε υπολογιστή εντός της εμβέλειας του σήματος του δικτύου, ώστε οι πληροφορίες που διαβιβάζονται μέσω του δικτύου (συμπεριλαμβανομένων των κρυπτογραφημένες πληροφορίες) μπορεί να υποκλαπούν από μη εξουσιοδοτημένους χρήστες. </a:t>
            </a:r>
            <a:br>
              <a:rPr sz="1600"/>
            </a:br>
            <a:br>
              <a:rPr sz="1600"/>
            </a:br>
            <a:r>
              <a:rPr b="1" lang="en-US" sz="1600" spc="-1" strike="noStrike">
                <a:solidFill>
                  <a:srgbClr val="000000"/>
                </a:solidFill>
                <a:latin typeface="Arial"/>
              </a:rPr>
              <a:t>Ταχύτητα </a:t>
            </a:r>
            <a:br>
              <a:rPr sz="1600"/>
            </a:br>
            <a:br>
              <a:rPr sz="1600"/>
            </a:br>
            <a:r>
              <a:rPr b="1" lang="en-US" sz="1600" spc="-1" strike="noStrike">
                <a:solidFill>
                  <a:srgbClr val="000000"/>
                </a:solidFill>
                <a:latin typeface="Arial"/>
              </a:rPr>
              <a:t>Τα ασύρματα δίκτυα είναι συνήθως πιο αργή από ενσύρματα δίκτυα, μερικές φορές ακόμη και μέχρι και 10 φορές πιο αργά.</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 EINAI TO wi-fi</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WiFi (Wireless Fidelity) ή WLAN (Wireless Local Area Network) είναι ένα σύστημα ασύρματης επικοινωνίας. Πρόκειται για μια περιορισμένη μορφή κυψελωτού δικτύου κεραιών των διαφόρων εταιρειών κινητής τηλεφωνίας (μικρότερης ισχύος ανά κεραία 50-100 mW).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το WiFi δίνεται η δυνατότητα διασύνδεσης φορητών ηλεκτρονικών υπολογιστών, κινητών τηλεφώνων, με το Διαδίκτυο.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ίνεται τηλεφωνική επικοινωνία μέσω Διαδικτύου, διασύνδεση ηλεκτρονικών συσκευών με τηλεοράσεις, ηχεία, ψηφιακές φωτογραφικές μηχανές, εκτυπωτές.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
          <p:cNvSpPr/>
          <p:nvPr/>
        </p:nvSpPr>
        <p:spPr>
          <a:xfrm>
            <a:off x="2608560" y="1843920"/>
            <a:ext cx="1034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68" name="" descr=""/>
          <p:cNvPicPr/>
          <p:nvPr/>
        </p:nvPicPr>
        <p:blipFill>
          <a:blip r:embed="rId1"/>
          <a:stretch/>
        </p:blipFill>
        <p:spPr>
          <a:xfrm>
            <a:off x="4716360" y="1989000"/>
            <a:ext cx="3934080" cy="289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Τι είναι το </a:t>
            </a:r>
            <a:r>
              <a:rPr b="1" lang="en-US" sz="2400" spc="-1" strike="noStrike">
                <a:solidFill>
                  <a:srgbClr val="000000"/>
                </a:solidFill>
                <a:latin typeface="Arial"/>
              </a:rPr>
              <a:t>WLAN</a:t>
            </a:r>
            <a:r>
              <a:rPr b="1" lang="el-GR" sz="2400" spc="-1" strike="noStrike">
                <a:solidFill>
                  <a:srgbClr val="000000"/>
                </a:solidFill>
                <a:latin typeface="Arial"/>
              </a:rPr>
              <a:t>?</a:t>
            </a:r>
            <a:endParaRPr b="0" lang="en-US" sz="2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13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Arial"/>
              </a:rPr>
              <a:t>Το WLAN ή αλλιώς wireless local area network, είναι ένα ασύρματο δίκτυο το οποίο συνεργάζεται με άλλες ασύρματες συσκευές. </a:t>
            </a:r>
            <a:endParaRPr b="0" lang="en-US" sz="1300" spc="-1" strike="noStrike">
              <a:solidFill>
                <a:srgbClr val="000000"/>
              </a:solidFill>
              <a:latin typeface="Arial"/>
            </a:endParaRPr>
          </a:p>
          <a:p>
            <a:pPr marL="339480" indent="-339480">
              <a:lnSpc>
                <a:spcPct val="13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Arial"/>
              </a:rPr>
              <a:t>Ένα συμβατικό οικιακό/μικρής επιχείρησης δίκτυο έχει δύο ή περισσότερους ηλεκτρονικούς υπολογιστές που συνδεόνται μεταξύ τους χρηστιμοποιώντας δικτυακό καλώδιο και κάποια συσκευή όπως hub/ switch/ router. </a:t>
            </a:r>
            <a:endParaRPr b="0" lang="en-US" sz="1300" spc="-1" strike="noStrike">
              <a:solidFill>
                <a:srgbClr val="000000"/>
              </a:solidFill>
              <a:latin typeface="Arial"/>
            </a:endParaRPr>
          </a:p>
          <a:p>
            <a:pPr marL="339480" indent="-339480">
              <a:lnSpc>
                <a:spcPct val="13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Arial"/>
              </a:rPr>
              <a:t>Σε αυτό το ήδη υπάρχων δίκτυο μπορεί να γίνει αναβάθμιση για να χρησιμοποιηθεί ένα ασύρματο σημείο (access point). Μπορεί παρόλα αυτά να υπάρξει και ένα ασύρματο δίκτυο εντελώς ανεξάρτητο από το υπόλοιπο δίκτυο μας. </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1"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5148360" y="2421000"/>
            <a:ext cx="3024000" cy="22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07:08:41Z</dcterms:created>
  <dc:creator>user12</dc:creator>
  <dc:description/>
  <dc:language>en-US</dc:language>
  <cp:lastModifiedBy>user11</cp:lastModifiedBy>
  <dcterms:modified xsi:type="dcterms:W3CDTF">2012-04-02T06:38:16Z</dcterms:modified>
  <cp:revision>5</cp:revision>
  <dc:subject/>
  <dc:title>Project</dc:title>
</cp:coreProperties>
</file>